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29C-9A4B-4DA9-941E-808B8C93D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9E96-92C7-43B3-AEB8-5E6C7CD2A030}" type="slidenum">
              <a:rPr b="0" lang="en-US" sz="1200" spc="-1" strike="noStrike">
                <a:solidFill>
                  <a:srgbClr val="2070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102-6925-4C50-9859-F88E8660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921-1967-4F58-97FE-749CB66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01A-CE10-422C-B105-11EE2BC0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509-E0C3-4D13-BEAE-1EDA0516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A0F-57E7-4071-9EC3-FEA6A6D8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2281-0FB2-4C8F-920D-7CCD0A5F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52D-08FB-403F-872A-DCB2B5A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9BD4-D81D-427E-82DA-E791B63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038-456A-4956-8DD0-F33DAEC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436-9A1A-4361-AD60-B1D245B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78C5-A99A-4FE4-95C0-28B4A92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ABA-C4A9-490F-B5BC-0BAE1A5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79C1-A27F-47E6-975E-877EAA4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962-412A-468F-AEF8-0F5A6EE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3862-9826-4DBD-838C-353E2D44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6C2-1D26-43FA-90E7-F7DA97DF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A3F1-6DF1-4FA1-934C-A193FC66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2C25-3B87-4CC6-AE5D-A7A21194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3246-D5CB-456E-A6F0-61EB5C8C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04C6-E193-441C-A799-BF9D772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714E-16DD-4675-A7B8-DC94B3B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4E06-8849-44F7-882E-3B36B43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891-09C7-4BE6-AFC8-54A2C8B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0D9D-2838-4B27-B8A9-8A2D5D13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F7B8-AE8A-43D7-AB67-848ACCC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2217-BE20-4D2E-8C2B-BDB7798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D173-A28F-4F91-92E5-D958C34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9AFA-FCBF-4023-91A2-B25A3E9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F005-29CA-4E9D-8825-0251AFFF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C14A-8DAA-40BB-94CF-94BD1DE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A93F-041A-4D13-B8E6-7136B10B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1E7B-653C-487B-89BB-DBAE605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DF73-FE31-4A5F-A107-D81A24CC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6B5-8867-47EC-A31C-7C5FCA1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CBD9-21C6-49FB-9BD3-659E5725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4998-F1D5-4C4E-80A1-58BE75A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FF5B-9691-4D27-AA0A-59B4BAD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6166-16BD-4E03-BA9B-2E9DF07E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A098-8CCE-4FF9-957C-EAAF661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52EF-C7B9-4DF2-B181-C5FEC7E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39C6-0B3A-483A-9126-14D06C83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BE04-5C5F-4F29-9FF6-BB4ACC0E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82E7-025D-4C23-8AC7-51BECBAB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5ED6-0E52-424F-86F1-B5060B7B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AF7-A183-4060-B8B6-77D37736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8FBA-A19B-4737-9329-5DEFCFE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825F-43B3-410E-BECD-D3C122C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1F7A-9710-43E3-9F42-FCAA49F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2EDB-79FE-4924-9CB7-5EFBB23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C594-9857-4562-8CC1-CBB41E4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C814-6EFC-4F91-9258-E20CA222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B33B-976B-4C4A-8C90-2ADA463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514F-2654-4FEA-B5B9-7AC308C5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FB74-F0EC-459A-9956-A4B58481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F6E1-16C2-40F6-9208-31F5E441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634-2EC3-41C1-8832-37A7CB6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2A93-FF35-4CBF-AC88-45E2E808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6108-90DF-46B2-88ED-9D7A126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8D0C-8188-43C6-8836-BBD90BD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7398-E554-48DC-9F5C-2C43F133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6941-6F96-4B6B-B630-C4293BA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F44CB-8A2F-4D4D-8C04-4E342657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3711-1DE1-42A5-A8ED-24951B8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41DA-16D1-46EB-8AD7-943513A1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F5C2-2192-4487-9BEC-49ACD55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3DCE9-5F3E-4082-8CC0-F46912E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C11-FAC6-4704-8633-2E80391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4B6E-A42E-44D2-92B2-C29AEB3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EB84-C3AF-4DF0-9216-83B92030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732B-8868-4A20-9072-393D906F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AB5-6149-49D9-8EB9-1637663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064-D709-407F-8BF3-B549E4C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685D-B616-491F-933D-3C8A1C81500F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328-153F-4465-9FEE-2457B843C5CA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B191-620E-428E-8B93-C6490BD31D52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5B31-80EA-464A-99E0-43E5FE7D0B4B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C7C-1C6A-4379-8584-0E70033AFACC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1C2-EA03-44D4-A1E0-C2FD7BA42EF6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24.xml"/><Relationship Id="rId25" Type="http://schemas.openxmlformats.org/officeDocument/2006/relationships/slide" Target="slide25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28.xml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5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62" name="Rectangle 57"/>
            <p:cNvSpPr/>
            <p:nvPr/>
          </p:nvSpPr>
          <p:spPr>
            <a:xfrm>
              <a:off x="0" y="3352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3" name="Rectangle 58"/>
            <p:cNvSpPr/>
            <p:nvPr/>
          </p:nvSpPr>
          <p:spPr>
            <a:xfrm>
              <a:off x="0" y="4495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0" y="1066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0" y="2209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0" y="563904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7" name="Rectangle 60"/>
            <p:cNvSpPr/>
            <p:nvPr/>
          </p:nvSpPr>
          <p:spPr>
            <a:xfrm>
              <a:off x="0" y="678204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8" name="Rectangle 61"/>
            <p:cNvSpPr/>
            <p:nvPr/>
          </p:nvSpPr>
          <p:spPr>
            <a:xfrm rot="5400000">
              <a:off x="121824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 rot="5400000">
              <a:off x="274212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0" name="Rectangle 63"/>
            <p:cNvSpPr/>
            <p:nvPr/>
          </p:nvSpPr>
          <p:spPr>
            <a:xfrm rot="5400000">
              <a:off x="426636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1" name="Rectangle 64"/>
            <p:cNvSpPr/>
            <p:nvPr/>
          </p:nvSpPr>
          <p:spPr>
            <a:xfrm rot="5400000">
              <a:off x="-30564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2" name="Rectangle 65"/>
            <p:cNvSpPr/>
            <p:nvPr/>
          </p:nvSpPr>
          <p:spPr>
            <a:xfrm rot="5400000">
              <a:off x="-182952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3" name="Rectangle 66"/>
            <p:cNvSpPr/>
            <p:nvPr/>
          </p:nvSpPr>
          <p:spPr>
            <a:xfrm rot="5400000">
              <a:off x="5725080" y="3363120"/>
              <a:ext cx="6782040" cy="5544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4" name="Rectangle 67"/>
            <p:cNvSpPr/>
            <p:nvPr/>
          </p:nvSpPr>
          <p:spPr>
            <a:xfrm rot="5400000">
              <a:off x="-335340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5" name="Rectangle 70"/>
            <p:cNvSpPr/>
            <p:nvPr/>
          </p:nvSpPr>
          <p:spPr>
            <a:xfrm>
              <a:off x="0" y="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6" name="Rounded Rectangle 77"/>
            <p:cNvSpPr/>
            <p:nvPr/>
          </p:nvSpPr>
          <p:spPr>
            <a:xfrm>
              <a:off x="15228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7" name="Rounded Rectangle 78"/>
            <p:cNvSpPr/>
            <p:nvPr/>
          </p:nvSpPr>
          <p:spPr>
            <a:xfrm>
              <a:off x="15228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8" name="Rounded Rectangle 79"/>
            <p:cNvSpPr/>
            <p:nvPr/>
          </p:nvSpPr>
          <p:spPr>
            <a:xfrm>
              <a:off x="15228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9" name="Rounded Rectangle 80"/>
            <p:cNvSpPr/>
            <p:nvPr/>
          </p:nvSpPr>
          <p:spPr>
            <a:xfrm>
              <a:off x="15228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0" name="Rounded Rectangle 81"/>
            <p:cNvSpPr/>
            <p:nvPr/>
          </p:nvSpPr>
          <p:spPr>
            <a:xfrm>
              <a:off x="15228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1" name="Rounded Rectangle 82"/>
            <p:cNvSpPr/>
            <p:nvPr/>
          </p:nvSpPr>
          <p:spPr>
            <a:xfrm>
              <a:off x="167616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2" name="Rounded Rectangle 83"/>
            <p:cNvSpPr/>
            <p:nvPr/>
          </p:nvSpPr>
          <p:spPr>
            <a:xfrm>
              <a:off x="167616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8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3" name="Rounded Rectangle 84"/>
            <p:cNvSpPr/>
            <p:nvPr/>
          </p:nvSpPr>
          <p:spPr>
            <a:xfrm>
              <a:off x="167616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9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4" name="Rounded Rectangle 85"/>
            <p:cNvSpPr/>
            <p:nvPr/>
          </p:nvSpPr>
          <p:spPr>
            <a:xfrm>
              <a:off x="167616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0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5" name="Rounded Rectangle 86"/>
            <p:cNvSpPr/>
            <p:nvPr/>
          </p:nvSpPr>
          <p:spPr>
            <a:xfrm>
              <a:off x="167616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1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6" name="Rounded Rectangle 87"/>
            <p:cNvSpPr/>
            <p:nvPr/>
          </p:nvSpPr>
          <p:spPr>
            <a:xfrm>
              <a:off x="320040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7" name="Rounded Rectangle 88"/>
            <p:cNvSpPr/>
            <p:nvPr/>
          </p:nvSpPr>
          <p:spPr>
            <a:xfrm>
              <a:off x="320040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8" name="Rounded Rectangle 89"/>
            <p:cNvSpPr/>
            <p:nvPr/>
          </p:nvSpPr>
          <p:spPr>
            <a:xfrm>
              <a:off x="320040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9" name="Rounded Rectangle 90"/>
            <p:cNvSpPr/>
            <p:nvPr/>
          </p:nvSpPr>
          <p:spPr>
            <a:xfrm>
              <a:off x="320040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0" name="Rounded Rectangle 91"/>
            <p:cNvSpPr/>
            <p:nvPr/>
          </p:nvSpPr>
          <p:spPr>
            <a:xfrm>
              <a:off x="320040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1" name="Rounded Rectangle 92"/>
            <p:cNvSpPr/>
            <p:nvPr/>
          </p:nvSpPr>
          <p:spPr>
            <a:xfrm>
              <a:off x="472428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2" name="Rounded Rectangle 93"/>
            <p:cNvSpPr/>
            <p:nvPr/>
          </p:nvSpPr>
          <p:spPr>
            <a:xfrm>
              <a:off x="472428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8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3" name="Rounded Rectangle 94"/>
            <p:cNvSpPr/>
            <p:nvPr/>
          </p:nvSpPr>
          <p:spPr>
            <a:xfrm>
              <a:off x="472428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9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4" name="Rounded Rectangle 95"/>
            <p:cNvSpPr/>
            <p:nvPr/>
          </p:nvSpPr>
          <p:spPr>
            <a:xfrm>
              <a:off x="472428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0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5" name="Rounded Rectangle 96"/>
            <p:cNvSpPr/>
            <p:nvPr/>
          </p:nvSpPr>
          <p:spPr>
            <a:xfrm>
              <a:off x="472428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1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6" name="Rounded Rectangle 97"/>
            <p:cNvSpPr/>
            <p:nvPr/>
          </p:nvSpPr>
          <p:spPr>
            <a:xfrm>
              <a:off x="624852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7" name="Rounded Rectangle 98"/>
            <p:cNvSpPr/>
            <p:nvPr/>
          </p:nvSpPr>
          <p:spPr>
            <a:xfrm>
              <a:off x="624852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8" name="Rounded Rectangle 99"/>
            <p:cNvSpPr/>
            <p:nvPr/>
          </p:nvSpPr>
          <p:spPr>
            <a:xfrm>
              <a:off x="624852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9" name="Rounded Rectangle 100"/>
            <p:cNvSpPr/>
            <p:nvPr/>
          </p:nvSpPr>
          <p:spPr>
            <a:xfrm>
              <a:off x="624852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0" name="Rounded Rectangle 101"/>
            <p:cNvSpPr/>
            <p:nvPr/>
          </p:nvSpPr>
          <p:spPr>
            <a:xfrm>
              <a:off x="624852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1" name="Rounded Rectangle 102"/>
            <p:cNvSpPr/>
            <p:nvPr/>
          </p:nvSpPr>
          <p:spPr>
            <a:xfrm>
              <a:off x="7772400" y="121896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2" name="Rounded Rectangle 107"/>
            <p:cNvSpPr/>
            <p:nvPr/>
          </p:nvSpPr>
          <p:spPr>
            <a:xfrm>
              <a:off x="7772400" y="3505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8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3" name="Rounded Rectangle 108"/>
            <p:cNvSpPr/>
            <p:nvPr/>
          </p:nvSpPr>
          <p:spPr>
            <a:xfrm>
              <a:off x="7772400" y="4648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9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4" name="Rounded Rectangle 109"/>
            <p:cNvSpPr/>
            <p:nvPr/>
          </p:nvSpPr>
          <p:spPr>
            <a:xfrm>
              <a:off x="7772400" y="5791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0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5" name="Rounded Rectangle 110"/>
            <p:cNvSpPr/>
            <p:nvPr/>
          </p:nvSpPr>
          <p:spPr>
            <a:xfrm>
              <a:off x="7772400" y="2362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1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6" name="Rounded Rectangle 111"/>
            <p:cNvSpPr/>
            <p:nvPr/>
          </p:nvSpPr>
          <p:spPr>
            <a:xfrm>
              <a:off x="15228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+1 Trait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7" name="Rounded Rectangle 112"/>
            <p:cNvSpPr/>
            <p:nvPr/>
          </p:nvSpPr>
          <p:spPr>
            <a:xfrm>
              <a:off x="167616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o Kill a Mockingbird</a:t>
              </a:r>
              <a:endParaRPr b="0" lang="en-US" sz="13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8" name="Rounded Rectangle 113"/>
            <p:cNvSpPr/>
            <p:nvPr/>
          </p:nvSpPr>
          <p:spPr>
            <a:xfrm>
              <a:off x="320040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efinitions</a:t>
              </a:r>
              <a:endParaRPr b="0" lang="en-US" sz="15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9" name="Rounded Rectangle 114"/>
            <p:cNvSpPr/>
            <p:nvPr/>
          </p:nvSpPr>
          <p:spPr>
            <a:xfrm>
              <a:off x="472428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ort Storie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10" name="Rounded Rectangle 115"/>
            <p:cNvSpPr/>
            <p:nvPr/>
          </p:nvSpPr>
          <p:spPr>
            <a:xfrm>
              <a:off x="624852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rm Example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11" name="Rounded Rectangle 116"/>
            <p:cNvSpPr/>
            <p:nvPr/>
          </p:nvSpPr>
          <p:spPr>
            <a:xfrm>
              <a:off x="7772400" y="152280"/>
              <a:ext cx="125244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 of View and Plot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ounded Rectangle 4">
            <a:hlinkClick r:id="rId2" action="ppaction://hlinksldjump"/>
          </p:cNvPr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character was addicted to morphine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rs. Dubos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709d"/>
                </a:solidFill>
                <a:latin typeface="Arial"/>
              </a:rPr>
              <a:t>To Kill a Mockingbird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 is an example of what kind of story? (autobiography, biography, memoir, fiction, nonfiction, etc.)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304920" y="4876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Fic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nonfict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304920" y="35053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mething that is real or happened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simil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4920" y="289548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Comparison of two unlike things using the words like or as.</a:t>
            </a:r>
            <a:endParaRPr b="0" lang="en-US" sz="66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autobiography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04920" y="297180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hen an author writes a story about his or her own life.</a:t>
            </a:r>
            <a:endParaRPr b="0" lang="en-US" sz="66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them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central idea of a literary work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80880" y="1600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memoi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304920" y="237816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When an author writes about a brief period in his or her life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is being hunted on Ship Trap Island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uman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fruit does Santiago reminisce about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uava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o is telling the story “The Necklace?”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 narrator (third person)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trait that covers the overall look of the piece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resent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4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is the most important emotion according to “The Gift of the Magi?”</a:t>
            </a:r>
            <a:br>
              <a:rPr sz="4000"/>
            </a:br>
            <a:r>
              <a:rPr b="0" lang="en-US" sz="4000" spc="-1" strike="noStrike">
                <a:solidFill>
                  <a:srgbClr val="20709d"/>
                </a:solidFill>
                <a:latin typeface="Arial"/>
              </a:rPr>
              <a:t>(anger, trust, envy, love, greed, etc.)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304920" y="4876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ending of “The Most Dangerous Game” is left open-ended. What is the correct terminology for this?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304920" y="4648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mbiguity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She is as tall as a tre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imil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80880" y="22096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yperbol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Your momma is so dumb, she tripped over a cordless phon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sunlight danced across the water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ersonific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80880" y="22096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6002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ending of “The Necklac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 tried to climb around in her skin and walk around in it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etaphor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correct terminology for the “turning point” of the story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climax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part of the story is where the characters and setting are introduced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n the third person point of view, who is the story told by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5" name="TextBox 9"/>
          <p:cNvSpPr/>
          <p:nvPr/>
        </p:nvSpPr>
        <p:spPr>
          <a:xfrm>
            <a:off x="304920" y="3733920"/>
            <a:ext cx="8458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A narrator/someone not in the story</a:t>
            </a:r>
            <a:endParaRPr b="0" lang="en-US" sz="6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makes sure you are using correct grammar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Convention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part of the story where the conflict is introduced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380880" y="2133720"/>
            <a:ext cx="853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709d"/>
                </a:solidFill>
                <a:latin typeface="Arial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n first person point of view, who is the story told by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main character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80880" y="129528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requires an inviting introduction, thoughtful transitions, logical sequencing, controlled pacing, and a satisfying conclus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304920" y="480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Organiz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makes up the content of the piece of writing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dea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304920" y="1752480"/>
            <a:ext cx="853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should be individual and engaging, suit the audience and topic, and have a strong interaction with the reade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304920" y="472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Voic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ounded Rectangle 7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o is the narrator of the story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cout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ounded Rectangle 3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family falsely accused Tom Robinson of rap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Ewells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ounded Rectangle 3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80880" y="2209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lady’s house burned down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04920" y="3962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iss Maudi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4:33:25Z</dcterms:created>
  <dc:creator>Eng</dc:creator>
  <dc:description/>
  <dc:language>en-US</dc:language>
  <cp:lastModifiedBy>owner</cp:lastModifiedBy>
  <dcterms:modified xsi:type="dcterms:W3CDTF">2013-01-21T05:38:38Z</dcterms:modified>
  <cp:revision>67</cp:revision>
  <dc:subject/>
  <dc:title>Slide 1</dc:title>
</cp:coreProperties>
</file>